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9D2-61DD-4FB7-AAEC-D4B46DE2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239E-F168-4683-B2C0-A7C9814E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6B94-6F10-4D35-9BFB-8AF9AB8D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173-E4CD-4DF8-A357-1888874A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EEE8-8910-4A9A-AB35-F5B0C0BC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EAA5-D904-40D8-AF64-6158CDE1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00B7-7E55-44C0-9F85-E8BF28D3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A42D-B2B2-466C-BA89-5ABA4A5E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1775-FC05-4640-8C78-79AA79D1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9BD6-DCC0-4444-8831-8F4B336F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EABC-333F-49C7-B171-899672D1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FF9-83A0-41C1-B157-72F3850D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C05A-0A64-42C4-ADE7-D5678C13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A999-EFA6-475B-8085-0AE52025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D764-0667-4AC1-BE7E-0DB39D52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AD6C-38EC-45D6-BF9D-D523CF6D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382A-1E57-40D5-AE15-7FD0D9A1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0622-51DC-47C8-A6F8-BD840504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A4B-C88E-4556-A295-8C0B6D1A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BB3D-9A21-4732-A260-3713F897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164-29E0-45FF-9495-7E7E1099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F014-97F2-42D9-A357-CB2C1994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098-DED3-401F-AEBF-3A2D4EA0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78E-CBC1-40D5-BF23-AECE9A54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A63A-F038-4F3E-A0B2-D1CC814F91CE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40A6-7433-4180-908C-47E5D2115861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jeto Ryben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81080" y="33526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Arg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Fernando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Herma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Marcelo </a:t>
            </a:r>
            <a:br>
              <a:rPr sz="3200"/>
            </a:b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Migu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jeto Ryben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33720" y="2362320"/>
          <a:ext cx="5352840" cy="29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362320"/>
                    <a:ext cx="535284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jeto Ryben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95280" y="2209680"/>
          <a:ext cx="22860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09680"/>
                    <a:ext cx="22860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257800" y="2286000"/>
          <a:ext cx="2133720" cy="403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86000"/>
                    <a:ext cx="21337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jeto Ryben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Atualmente o projeto está em fase intermediária de desenvolviment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O Banco de dados com os gestos já foi desenvolvido utilizando-se flash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Está em andamento o desenvolvimento de um banco de imagens das 300 palavras mais utilizadas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E está em andamento também o módulo de reconhecimento e sintetização da voz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Para simplificação da fase de testes está se utilizando uma versão otimizada da linguagem LIBRAS, pois a oficial um gesto pode representar uma frase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jeto Ryben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o contexto da usabilidade o projeto apresentado tem um grande impacto positivo para o público alvo, pois a inclusão digital faz parte de um grande movimento pela inclusão social do indivídu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pesar de estar em fase inicial os resultados apresentados são promissores, pois permitem a aplicação desta tecnologia aos mais variados serviço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 em um país onde estima-se em mais de 5,5 milhões de portadores de deficiência auditiva (segundo censo 2000 – IBGE), a grande maioria desamparados, qualquer iniciativa de inclusão social destes indivíduos é válida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jeto Ryben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Breve Histórico 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Até o século XVI os portadores de deficiência auditiva eram considerados menos capacitados para realização de tarefas do ponto de vista intelectual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Este preconceito só começou a se desfazer quando perceberam que os surdo poderia se comunicar através da linguagem de sinais e da própria língua falada (Bilinguismo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No bilinguismo o deficiente auditivo aprende tanto a linguagem de sinais quanto a linguagem oral, vale ressaltar que as duas linguagens são utilizadas de forma complementar pelo indivídu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jeto Ryben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LIBRAS 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 Libras (linguagem Brasileira de Sinais) é a forma oficial pelo qual a comunidade de surdos se comunica no Brasil. Segundo estudos as linguagens de sinais são comparáveis as orais em expressividade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ssim como o português, chinês, japonês e etc., a linguagem de sinais difere de país para paí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 Libras pode ser considerada uma língua pois possui características sintáticas, morfológicas e semânticas que preenchem as qualidades de uma linguagem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jeto Ryben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Tecnologias já desenvolvidas 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DOSVOX – Sistema operacional para PC´s que se comunica com o usuário através da sintetização da voz, permitindo com que deficientes visuais utilizem computador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DOSVOX está sendo desenvolvido desde 1993 pelo NCE (Núcleo de Computação Eletrônica) da UFRJ sob a coordenação do professor José Antônio dos Santos Borges. A idéia de desenvolver tal programa surgiu a partir do trabalho de um aluno com deficiência visual, que hoje é programador do Núcleo.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jeto Ryben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Telefone público para deficiente auditivo – A Companhia 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  <a:ea typeface="Arial"/>
              </a:rPr>
              <a:t>Riograndense de Telecomunicações (CRT)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, já possui tecnologia, aprovada e testada,em telefones públicos (orelhões) para deficientes auditivo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Os terminais são especiais e possuem teclado e um visor para leitura, as ligações são sempre intermediadas por um funcionário da própria CRT. O funcionamento é simples enquanto o deficiente digita a mensagem o funcionário lê para o interlocutor, inversamente, o funcionário digita o que falado por este último para que seja lido pelo deficiente no visor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jeto Ryben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O Rybená é um projeto que surgiu para preencher uma lacuna existente na comunicação com surdos via telefone celular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Ele vem sendo desenvolvido pela Universidade Católica de Brasília (principalmente) com ajuda de outras universidades e instituiçõ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jeto Ryben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33"/>
                </a:solidFill>
                <a:latin typeface="Arial"/>
              </a:rPr>
              <a:t>Escopo do Projeto 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Foi constatado que grande parte dos deficientes auditivos do Distrito Federal utilizam as mensagens SMS (torpedos) como meio de comunicação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Só que este serviço não é apresenta consistência e confiabilidade quanto ao tempo de recepção e o envio da mesm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No princípio tentou-se desenvolver um sistema que permitisse a comunicação bidirecional (chat) entre receptor e emissor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Mas esta idéia esbarrou em outro entrave, o da baixa escolaridade (anafalbetismo) de um terço da comunidade dos surdos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jeto Ryben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Foi então que percebeu-se a necessidade da utilização da LIBRAS como forma de estabelecer a comunicação entre as partes envolvida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A equipe de desenvolvedores  conta com 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- 2 Analistas de sistemas, sendo um ceg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- Programador JAVA (Surdo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33"/>
                </a:solidFill>
                <a:latin typeface="Arial"/>
              </a:rPr>
              <a:t>- entre outros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jeto Ryben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bjetivo 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 objetivo deste projeto, futuramente, é permitir a comunicação entre um cego e um surdo através do aparelho celular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 idéia consiste basicamente do seguinte, a operadora recebe a mensagem em voz e repassa ao reconhecedor que transforma a mesma em texto então é convertida em Libras o sistema faz a conexão e relaciona a mensagem em Libras com um conjunto de animações contidas no Banco de Dado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01:31:10Z</dcterms:created>
  <dc:creator>Miguel</dc:creator>
  <dc:description/>
  <dc:language>en-US</dc:language>
  <cp:lastModifiedBy>Miguel</cp:lastModifiedBy>
  <dcterms:modified xsi:type="dcterms:W3CDTF">2004-07-07T01:54:15Z</dcterms:modified>
  <cp:revision>7</cp:revision>
  <dc:subject/>
  <dc:title>Projeto Rybená</dc:title>
</cp:coreProperties>
</file>